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1.png" ContentType="image/png"/>
  <Override PartName="/ppt/media/image32.png" ContentType="image/pn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F043-D7FF-4232-BD73-20EDB6AF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772C-E67E-445D-BBC6-2F41C002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4E26-5480-45D5-A6FA-20B7050F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D2BD-9893-4FC4-8B5E-DF2D216B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9021-F78B-4B3A-95D1-E43EB1B6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4002-0CF3-44C8-A1FD-C77AAD7A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7D11-2E65-4640-BC01-3BFE2125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547E-4A23-4F30-8345-3B3E6EEF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368B-B7C9-4B85-89AB-24A6B25B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520D-85D9-48DD-8DE9-1084FD69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874D-05F2-4CFC-956E-0C04EFF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27161-E030-4A31-A73C-53006930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7CCD-87D9-438E-81E8-891A9EA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E118-2A11-4A01-85A7-199BEC5F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7F68-BFC5-4D6D-94B6-01C10BFA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072D-C1F5-401F-9312-5DE12FD2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25F9-722A-49B8-96F8-6154C090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C821-0339-4847-A53B-80560662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DC99-1C75-4470-8A76-54C2DC81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AFD9-C61F-4406-A124-64408DE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2E3B-45B1-41DA-A692-B57D79A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D910-39E4-4015-8B5B-C5300EF0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440C-B8DC-47CA-ADD5-B5BDD7D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9A25-75C3-4547-80A6-7C95D0A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7DDE-10B7-4309-BFD8-B9333A890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5AD3-40DA-44CC-B438-0B0070AF665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BD60-3484-494C-9633-8367A95256B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9680-3C2C-4101-85D8-934DFC123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THANG%20&#272;I&#7874;M%20TI&#7874;U%20LU&#7852;N_CO%20THUYET%20TRINH.doc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bbbbbbbbbbbbbbbbbbbbbbbbbbbbbbbbbbbbbbbbbbbbbbbbbbbbbbbbbbbbbbbbbbbbbbbbbbbbbbbbbbbbbbbbbbbbbbbbbbbbbbbbbbbbbbbbbbb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136B-4CDE-46E1-A304-83F91BC248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51C5-7583-433B-8475-1BAB9DE4241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MÔN HỌC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</a:t>
            </a: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Arial"/>
                <a:ea typeface="Times New Roman"/>
              </a:rPr>
              <a:t>(MANAGEMENT OF OFFICE)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GV: TS. Nguyễn Nam Hà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0909812330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namhadhcn@yahoo.com.v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111" name="Frame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Knowledge: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Understand the functions, tasks, organizational structure, organizational form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Understand the system of legal, judicial documents, administrative doc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BB6A-1AF9-48C0-911B-B283113D7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291C-AC99-4A30-A628-58A95E679D3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OBJECTIV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Skills:          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Know how to organize, manag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Drafting and presentation of common administrative documents: Decision, notify, report, reports, documents ..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8"/>
          <p:cNvSpPr/>
          <p:nvPr/>
        </p:nvSpPr>
        <p:spPr>
          <a:xfrm>
            <a:off x="457200" y="9907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Horizontal Scroll 9"/>
          <p:cNvSpPr/>
          <p:nvPr/>
        </p:nvSpPr>
        <p:spPr>
          <a:xfrm>
            <a:off x="457200" y="37339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C683-AD4B-4CE1-80C0-D0AC1C9A7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C5EC-F588-4C3A-9987-F079D7C5294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chức năng, nhiệm vụ, cơ cấu tổ chức, hình thức tổ chức V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hệ thống VB QPPL, VBTP, VBHC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ỤC TIÊU CỦA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Biết cách tổ chức, quản lý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Soạn thảo, trình bày VB hành chính thông dụng: Quyết định, thông báo, tờ trình, báo cáo, công văn…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Horizontal Scroll 8"/>
          <p:cNvSpPr/>
          <p:nvPr/>
        </p:nvSpPr>
        <p:spPr>
          <a:xfrm>
            <a:off x="380880" y="9907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ến t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Horizontal Scroll 9"/>
          <p:cNvSpPr/>
          <p:nvPr/>
        </p:nvSpPr>
        <p:spPr>
          <a:xfrm>
            <a:off x="380880" y="35053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1B03-683A-4FB9-BCE7-105F45B6E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4B01-A054-4897-971A-64DBDCDD901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áo trình Quản trị văn phòng, Khoa QTKD, Trường ĐHCN TPHCM, 2011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Horizontal Scroll 7"/>
          <p:cNvSpPr/>
          <p:nvPr/>
        </p:nvSpPr>
        <p:spPr>
          <a:xfrm>
            <a:off x="380880" y="990720"/>
            <a:ext cx="37339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áo trì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57200" y="3429000"/>
            <a:ext cx="8305920" cy="2971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GS.TS. Đồng Thị Thanh Phương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., T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ương Thị Kim Thanh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TP.HCM 2009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Mike Harvey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Hồng Đức, TP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9"/>
          <p:cNvSpPr/>
          <p:nvPr/>
        </p:nvSpPr>
        <p:spPr>
          <a:xfrm>
            <a:off x="380880" y="2819520"/>
            <a:ext cx="373392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m kh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0259-CF2B-4465-98FF-4F7441100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57F3-7C7E-4208-BADB-413990D6855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2" name="Picture 2" descr="http://saigon-uni.edu.vn/uploads/fckeditor/image/quantri.JPG"/>
          <p:cNvPicPr/>
          <p:nvPr/>
        </p:nvPicPr>
        <p:blipFill>
          <a:blip r:embed="rId1"/>
          <a:stretch/>
        </p:blipFill>
        <p:spPr>
          <a:xfrm>
            <a:off x="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3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5" name="Picture 8" descr="http://www.davibooks.vn/beta/upload_images/old_picture/a/5f6201605823ea1db63a9ea92cd97c68.jpg"/>
          <p:cNvPicPr/>
          <p:nvPr/>
        </p:nvPicPr>
        <p:blipFill>
          <a:blip r:embed="rId2"/>
          <a:stretch/>
        </p:blipFill>
        <p:spPr>
          <a:xfrm>
            <a:off x="304812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16" name="Picture 10" descr="http://t.f10.photo.zdn.vn/upload/original/2012/06/16/20/10/1339852234956358045.jpg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7" name="Horizontal Scroll 9"/>
          <p:cNvSpPr/>
          <p:nvPr/>
        </p:nvSpPr>
        <p:spPr>
          <a:xfrm>
            <a:off x="0" y="0"/>
            <a:ext cx="9144000" cy="12193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77EA-55BE-40D4-BB9C-46DA4EFD3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4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D67A-A9A5-4E6F-8980-E5461187E44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" y="1066680"/>
            <a:ext cx="83059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ến pháp 1992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3/6/2008 (01/01/2009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của HĐND, UBND 3/12/2004 (1/4/2005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Lưu trữ 01/01/2011 (01/7/2012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7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10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96B9-C9CC-4C00-B064-C4C6EA2BF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8D39-AC3A-4BE8-A294-BB32F8063CB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28" name="Picture 2" descr="http://4.bp.blogspot.com/-86u6ApdL0sM/ULtvPfksD2I/AAAAAAAAAIw/6FPKO3h7Sj0/s400/hienphap.jpg"/>
          <p:cNvPicPr/>
          <p:nvPr/>
        </p:nvPicPr>
        <p:blipFill>
          <a:blip r:embed="rId1"/>
          <a:stretch/>
        </p:blipFill>
        <p:spPr>
          <a:xfrm>
            <a:off x="0" y="1219320"/>
            <a:ext cx="3048120" cy="56386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19368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97180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312408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232" name="Horizontal Scroll 9"/>
          <p:cNvSpPr/>
          <p:nvPr/>
        </p:nvSpPr>
        <p:spPr>
          <a:xfrm>
            <a:off x="0" y="33480"/>
            <a:ext cx="91440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BDCD-97E5-4184-A9D8-00E0729F7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D56F-9B68-407B-B994-9B5A3B34192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58/2001 Quản lý con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82/2001 Nghi lễ Nhà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110/2004 Công tác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24/2009 Luật Ban hành VBQP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31/2009 Sửa đổi NĐ 58/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9/2010 Sửa đổi NĐ 110/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01/2013 Luật Lưu tr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560-1606-49D7-90FC-E2E75C32E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55BA-5443-470B-9376-23C3E828BD6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liên tịch 55_6/5/2005_BNV-VPCP: Hướng dẫn về thể thức và kỹ thuật trình bày văn bả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ông tư 01_19/1/2011_Bộ Nội vụ: Hướng dẫn thể thức và kỹ thuật trình bày văn bản hành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9/2011/Bộ Nội vụ_T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ờ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ạ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b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o qu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ồ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 sơ, 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à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li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ệ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u c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E4A0-1B7A-4002-83D0-DABDA63EE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9EDF-5F0C-44A2-9B41-7646FE102F9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fba.iuh.edu.v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/ Bài giảng giáo viên / Nguyễn Nam Hà / Môn QTV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BÀI GIẢNG ĐIỆN TỬ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" y="3962520"/>
            <a:ext cx="8229600" cy="2438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gov.vn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/ Hệ thống văn bản / Thông tư / Năm ban hành / 2011 / Thông tư số 01 Bộ Nội vụ - thể thức &amp; kỹ thuật trình bày VBH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8"/>
          <p:cNvSpPr/>
          <p:nvPr/>
        </p:nvSpPr>
        <p:spPr>
          <a:xfrm>
            <a:off x="304920" y="312408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VĂN BẢN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0821-584A-4FD0-80B9-6AE9DBDFE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FC32-D4E9-4587-AD92-9D807069158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na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ốc hội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ính ph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so.gov.vn (Tổng cục thống k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iuh.edu.vn (ĐHCN TPHC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WEBSITE THAM K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Ả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C1CC-4522-436A-AEA8-088BB16C1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D0BE-AA84-4BB7-B1D6-B8AB7699734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117" name="Content Placeholder 8" descr=""/>
          <p:cNvPicPr/>
          <p:nvPr/>
        </p:nvPicPr>
        <p:blipFill>
          <a:blip r:embed="rId2"/>
          <a:stretch/>
        </p:blipFill>
        <p:spPr>
          <a:xfrm>
            <a:off x="438120" y="1200240"/>
            <a:ext cx="8309160" cy="5219640"/>
          </a:xfrm>
          <a:prstGeom prst="rect">
            <a:avLst/>
          </a:prstGeom>
          <a:ln w="0">
            <a:noFill/>
          </a:ln>
        </p:spPr>
      </p:pic>
      <p:sp>
        <p:nvSpPr>
          <p:cNvPr id="118" name="Horizontal Scroll 6"/>
          <p:cNvSpPr/>
          <p:nvPr/>
        </p:nvSpPr>
        <p:spPr>
          <a:xfrm>
            <a:off x="304920" y="18576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ÁC ĐỊNH MỤC TIÊU HỌC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6824-6674-4819-B495-C84EAA474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55C3-A7C1-46C3-B0CB-0B247973E26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4" name="Picture 2" descr="http://mic.gov.vn/tintucsukien/tintonghop/PublishingImages/congchinhphu.jp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099D-BC22-4B1B-8070-778CF1444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F7E2-447A-4695-ADF7-1951DA92EB1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VP ảo: Thực trạng &amp; giải pháp phát triể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Giao tiếp VP - tiếp khách qua điện thoại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Giao tiếp VP - tiếp khách trực tiế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lựa chọn vị trí đặt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2578-F27F-44FD-B656-4D42BC80FD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D1B0-3253-47CA-A48C-77FF10090D3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bài trí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ổ chức công tác VP trong IUH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Sử dụng không gian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nh sáng trong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BB02-8475-4348-810B-62BAFAEFD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2BDD-0A31-4388-93C4-58B27320943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“Xanh”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ội thất văn phò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&amp; vấn đề bảo vệ môi trường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&amp; vấn đề tiết kiệm năng lượ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mở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2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ông ti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ời gia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6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Tổ chức sự kiện trong doanh nghiệ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điện tử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9756-B25C-4FE8-A495-86416AB28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C9C7-2C87-404E-ADBD-36CF9D5248B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ỹ năng làm việc theo nhó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hồ sơ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p dụng 5S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ội họp tại VN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Ứng dụng hệ thống quản lý chất lượng ISO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5EE-717E-402E-813E-E2B239805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75EC-D224-45C9-B92A-D1059227AEF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8912-0650-4172-8E02-B9F28BE17E7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E31-FAA8-4607-BF85-D86FEA561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8" name="Bevel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ART I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9" name="Picture 7" descr="https://encrypted-tbn1.gstatic.com/images?q=tbn:ANd9GcSwEocHnrCMfwce3RIGPI1Q0HsXY-22bZAU2GjqsNFI_XE9TSgZ"/>
          <p:cNvPicPr/>
          <p:nvPr/>
        </p:nvPicPr>
        <p:blipFill>
          <a:blip r:embed="rId1"/>
          <a:stretch/>
        </p:blipFill>
        <p:spPr>
          <a:xfrm>
            <a:off x="193680" y="228600"/>
            <a:ext cx="3159000" cy="2514600"/>
          </a:xfrm>
          <a:prstGeom prst="rect">
            <a:avLst/>
          </a:prstGeom>
          <a:ln w="0">
            <a:noFill/>
          </a:ln>
        </p:spPr>
      </p:pic>
      <p:sp>
        <p:nvSpPr>
          <p:cNvPr id="30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AF02-A7DF-4772-AE41-71F21A3A7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5A10-71ED-44C7-B0C2-95B1EDDC982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4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hần I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TỔNG QUAN VỀ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5" name="Picture 6" descr="http://www.getentrepreneurial.com/images/Office%20Management.gif"/>
          <p:cNvPicPr/>
          <p:nvPr/>
        </p:nvPicPr>
        <p:blipFill>
          <a:blip r:embed="rId1"/>
          <a:stretch/>
        </p:blipFill>
        <p:spPr>
          <a:xfrm>
            <a:off x="193680" y="228600"/>
            <a:ext cx="3019320" cy="236232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D9A5-E422-47FB-A0B2-CA514DF4F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DA6D-42FA-4786-943F-3C68603E34F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30240"/>
            <a:ext cx="9144000" cy="63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 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PERIODS FOR LECTURE: 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HOME STUDY: 6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1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2" name="Horizontal Scroll 6"/>
          <p:cNvSpPr/>
          <p:nvPr/>
        </p:nvSpPr>
        <p:spPr>
          <a:xfrm>
            <a:off x="2743200" y="914400"/>
            <a:ext cx="3657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2D83-F105-49A6-85B1-CFA75C4E2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7497-353F-40A3-911F-2FC75CFD6D0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KHÁI QUÁ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Ố TIẾT GIẢNG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(TỰ HỌC: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8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9" name="Horizontal Scroll 6"/>
          <p:cNvSpPr/>
          <p:nvPr/>
        </p:nvSpPr>
        <p:spPr>
          <a:xfrm>
            <a:off x="2895480" y="838080"/>
            <a:ext cx="33530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ương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20" name="Picture 9" descr="http://sto.com.vn/uploads/download/images/sto-logo.jpg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2219400"/>
          </a:xfrm>
          <a:prstGeom prst="rect">
            <a:avLst/>
          </a:prstGeom>
          <a:ln w="0">
            <a:noFill/>
          </a:ln>
        </p:spPr>
      </p:pic>
      <p:sp>
        <p:nvSpPr>
          <p:cNvPr id="32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3461-CFCD-4EC1-AC81-3894DD215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DF34-5352-472C-A7CB-E0B5E373DC1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H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hành chín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T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tư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QPPL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quy phạm pháp luậ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DN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Doanh nghiệ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ĐD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 đại diệ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QT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Quản trị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CQ T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Cơ quan, tổ chứ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4" name="Picture 6" descr="http://vnexpress.net/Files/Subject/3b/be/07/d5/a-tb-1-nhu-cau-thue-van-pho.jpg"/>
          <p:cNvPicPr/>
          <p:nvPr/>
        </p:nvPicPr>
        <p:blipFill>
          <a:blip r:embed="rId1"/>
          <a:stretch/>
        </p:blipFill>
        <p:spPr>
          <a:xfrm>
            <a:off x="6095880" y="3467160"/>
            <a:ext cx="2590920" cy="293364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cepts, functions and office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ational structure of the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rinciple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ethods of office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form of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2480-8413-4694-8A27-4BECB9359F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4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E3B3-BD76-4902-ACE2-E873B444739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6" name="Horizontal Scroll 6"/>
          <p:cNvSpPr/>
          <p:nvPr/>
        </p:nvSpPr>
        <p:spPr>
          <a:xfrm>
            <a:off x="304920" y="7632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SON CONT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24DC-8AAC-4DE3-9495-916B9C6B4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9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214-DF6A-4EBD-B2F9-DEAD8B15A38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ái niệm, chức năng, nhiệm vụ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ơ cấu tổ chức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oạt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ổ chức văn ph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quản lý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bố trí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hình thức hoạt động của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7000"/>
                            </p:stCondLst>
                            <p:childTnLst>
                              <p:par>
                                <p:cTn id="8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Narrow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ead office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Broad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general operating apparatus of the organization, ensuring the technical material conditions for the operation of the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Management perspectiv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Where receiving and processing information for the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715D-EAE8-45EC-8744-87AB6F109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6" name="Date Placeholder 4"/>
          <p:cNvSpPr/>
          <p:nvPr/>
        </p:nvSpPr>
        <p:spPr>
          <a:xfrm>
            <a:off x="457200" y="6245280"/>
            <a:ext cx="2971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9CA-B7CA-45A1-A9F6-468F91D3662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8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 CONCEPTS, FUNCTIONS &amp; DUTI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9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OFFICE CONCEP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0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685A-7717-43E6-924D-3EE1B6A9B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2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3F63-FB8A-494E-9330-D5916005E1D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hẹ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ụ sở làm việc của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rộ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Bộ máy điều hành tổng hợp của CQ, TC, bảo đảm các điều kiện vật chất, kỹ thuật cho hoạt động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óc độ quản tr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ơi tiếp nhận, xử lý thông tin phục vụ công tác điều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1. KHÁI NIỆM, CHỨC NĂNG, NHIỆM VỤ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6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KHÁI NIỆ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is the planning, organization, coordination, standardization and control of information processing activities in the off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72A2-32A8-46F0-B068-9280465F2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0" name="Date Placeholder 4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8005-D82F-4CD2-ADE5-299FE747997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2" name="Horizontal Scroll 6"/>
          <p:cNvSpPr/>
          <p:nvPr/>
        </p:nvSpPr>
        <p:spPr>
          <a:xfrm>
            <a:off x="380880" y="763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2. OFFICE MANAGEMENT CONCEP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53" name="Picture 8" descr="https://encrypted-tbn3.gstatic.com/images?q=tbn:ANd9GcTASSXGrYCIzCqCsb1CLTqtzaqIZ_TWDiMl5SAbdvunbleKFRu5"/>
          <p:cNvPicPr/>
          <p:nvPr/>
        </p:nvPicPr>
        <p:blipFill>
          <a:blip r:embed="rId1"/>
          <a:stretch/>
        </p:blipFill>
        <p:spPr>
          <a:xfrm>
            <a:off x="4572000" y="3429000"/>
            <a:ext cx="4067280" cy="2895480"/>
          </a:xfrm>
          <a:prstGeom prst="rect">
            <a:avLst/>
          </a:prstGeom>
          <a:ln w="0">
            <a:noFill/>
          </a:ln>
        </p:spPr>
      </p:pic>
      <p:sp>
        <p:nvSpPr>
          <p:cNvPr id="35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ABE6-75CD-4268-99E2-309D88552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457200" y="6245280"/>
            <a:ext cx="3200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2C1-E4E6-427B-9538-78DF858C75C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Quản trị hành chánh văn phòng là việc hoạch định, tổ chức, phối hợp, tiêu chuẩn hó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&amp;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kiểm soát các hoạt động xử lý thông tin trong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9" name="Horizontal Scroll 6"/>
          <p:cNvSpPr/>
          <p:nvPr/>
        </p:nvSpPr>
        <p:spPr>
          <a:xfrm>
            <a:off x="380880" y="33480"/>
            <a:ext cx="838224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2. KHÁI NIỆM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60" name="Picture 8" descr="http://1.bp.blogspot.com/-dd3w6dxxiNo/Tj86_KLudlI/AAAAAAAABDM/5Mk987xlfKw/s400/i_love_office_management_postcard-p239729007590858055qibm_400.jpg"/>
          <p:cNvPicPr/>
          <p:nvPr/>
        </p:nvPicPr>
        <p:blipFill>
          <a:blip r:embed="rId1"/>
          <a:stretch/>
        </p:blipFill>
        <p:spPr>
          <a:xfrm>
            <a:off x="4495680" y="3505320"/>
            <a:ext cx="41148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3F45-412D-4B1C-AF85-715812A98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AD6-4FF4-4BBF-8181-D36D8DC0BBB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planning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7" name="Horizontal Scroll 6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OFFICE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8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e the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irect the work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eck for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Services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(legal papers valid in the field of management, not for profit purposes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3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4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5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6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45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09D8-10AA-4556-8CB3-4E9902165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8" name="Date Placeholder 2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FC20-8CCD-4624-9356-6DC77272056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oạch định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1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HỨC NĂNG CỦA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3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thực hiện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Lãnh đạo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Kiểm tra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Dịch vụ hành chính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cấp giấy tờ có giá trị pháp lý trong lĩnh vực quản lý, không nhằm mục tiêu lợi nhuận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8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9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0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1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Content Placeholder 5" descr=""/>
          <p:cNvPicPr/>
          <p:nvPr/>
        </p:nvPicPr>
        <p:blipFill>
          <a:blip r:embed="rId1"/>
          <a:stretch/>
        </p:blipFill>
        <p:spPr>
          <a:xfrm>
            <a:off x="291960" y="1500120"/>
            <a:ext cx="8560080" cy="466884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8C9A-5BA6-44CA-B851-9FF9F24E6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4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F89F-9E4F-4677-B597-AF80237EBE9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6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FUNCTION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7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9907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1828800" y="49528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Content Placeholder 5" descr=""/>
          <p:cNvPicPr/>
          <p:nvPr/>
        </p:nvPicPr>
        <p:blipFill>
          <a:blip r:embed="rId1"/>
          <a:stretch/>
        </p:blipFill>
        <p:spPr>
          <a:xfrm>
            <a:off x="311040" y="1500120"/>
            <a:ext cx="8521920" cy="474192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3D64-3BA0-44CA-A06E-3683C252F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3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6D73-542C-4FA6-9E7B-33F7D3C60CE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5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CHỨC NĂNG CỦA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7621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1676520" y="5029200"/>
            <a:ext cx="838080" cy="8380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1298-6247-4067-8524-F2831FCC9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5100-CCF2-4519-AD89-A08B504AA5C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Total units of stud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2 units of study (30 information theory + homework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Course Progra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7 Chap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ssa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A group of 3 to 10 students (classroom presentations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xam for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tests / implementation of self-review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Absent from class more than six periods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an the end of the semes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COUR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EADB-33FD-4905-9D27-917FC0752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1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DACC-E7F4-4C13-8AFF-79971BEC45F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isi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roposed solutions help leaders handle the job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ynthesi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Receiving, processing, provide information for management and administr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4" name="Horizontal Scroll 7"/>
          <p:cNvSpPr/>
          <p:nvPr/>
        </p:nvSpPr>
        <p:spPr>
          <a:xfrm>
            <a:off x="304920" y="33480"/>
            <a:ext cx="8458200" cy="1338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THE FUNCTION OF ADVISING &amp; SYNTHESIS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15" name="Picture 2" descr="http://www.apave.com.vn/Modules/CMS/Upload/56/Nam_2009/Thang_8/Ngay_17/secretary_1.jpg"/>
          <p:cNvPicPr/>
          <p:nvPr/>
        </p:nvPicPr>
        <p:blipFill>
          <a:blip r:embed="rId1"/>
          <a:stretch/>
        </p:blipFill>
        <p:spPr>
          <a:xfrm>
            <a:off x="4952880" y="3962520"/>
            <a:ext cx="3733920" cy="23907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16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7ADC-436F-4C47-807C-8B51D384A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8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3011-3EA3-4888-AC0C-FBADD9ECB1B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510552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am mưu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ề xuất giải pháp giúp lãnh đạo xử lý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ổng hợ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iếp nhận, xử lý, cung cấp thông tin phục vụ quản l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1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CHỨC NĂNG THAM MƯU, TỔNG HỢP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22" name="Picture 6" descr="http://www.misa.com.vn/Portals/0/Upload2012/yahoocomvn/Images/10/nghe_tro_ly_bao_chi.jpg"/>
          <p:cNvPicPr/>
          <p:nvPr/>
        </p:nvPicPr>
        <p:blipFill>
          <a:blip r:embed="rId1"/>
          <a:stretch/>
        </p:blipFill>
        <p:spPr>
          <a:xfrm>
            <a:off x="5638680" y="1009800"/>
            <a:ext cx="3095640" cy="5314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2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9FA0-D4B6-4E25-9302-73D09004D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C249-7EAE-46FF-96AE-44D23B2420C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57200" y="990720"/>
            <a:ext cx="8229600" cy="2666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inancial management (revenue &amp; expenditure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Asset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Ensuring infrastructure, facilities &amp; working conditions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8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LOGISTICS FUNCTION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ocal organization's communication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portal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0" name="Horizontal Scroll 9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REPRESENTATIVE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DEF7-3D05-4999-8FF9-47ADE55CC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3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9AB0-DB3A-446A-B72A-F7C9CA91D5D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chính (thu ch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s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cơ sở vật chất, phương tiện &amp; điều kiện làm việc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CHỨC NĂNG HẬU CẦ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Đầu mối giao tiếp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ổng thông tin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8" name="Horizontal Scroll 8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CHỨC NĂNG ĐẠI D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1975-D396-4263-B59F-7AACCD53F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457200" y="6305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3F11-D008-42F5-BA49-E8E43306DE9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57200" y="762120"/>
            <a:ext cx="8305920" cy="5715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ollect, process, and transfer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evelop programs &amp; plan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reparing documents for handling affairs leaders,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rafting and issuing documents, supervise the implementation of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 of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al communication for internal &amp; external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Management &amp; storage of document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Human resource management, labor, wage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Asset management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4" name="Horizontal Scroll 7"/>
          <p:cNvSpPr/>
          <p:nvPr/>
        </p:nvSpPr>
        <p:spPr>
          <a:xfrm>
            <a:off x="304920" y="33480"/>
            <a:ext cx="8534160" cy="8046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DUTIE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6147-DDF0-41A1-9436-7B6A1AC7BA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7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5077-CD42-4731-AAEE-B306F0ED78B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hu thập, xử lý, truyền đạt thông 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huẩn bị tài liệu cho lãnh đạo giải quyết công việc, hội họ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0" name="Horizontal Scroll 6"/>
          <p:cNvSpPr/>
          <p:nvPr/>
        </p:nvSpPr>
        <p:spPr>
          <a:xfrm>
            <a:off x="1600200" y="0"/>
            <a:ext cx="7238880" cy="8049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NHIỆM VỤ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1" name="Right Arrow Callout 7"/>
          <p:cNvSpPr/>
          <p:nvPr/>
        </p:nvSpPr>
        <p:spPr>
          <a:xfrm>
            <a:off x="152280" y="762120"/>
            <a:ext cx="1524240" cy="1981080"/>
          </a:xfrm>
          <a:prstGeom prst="rightArrowCallout">
            <a:avLst>
              <a:gd name="adj1" fmla="val 48804"/>
              <a:gd name="adj2" fmla="val 49990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ÔNG TI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2" name="Right Arrow Callout 8"/>
          <p:cNvSpPr/>
          <p:nvPr/>
        </p:nvSpPr>
        <p:spPr>
          <a:xfrm>
            <a:off x="152280" y="2819520"/>
            <a:ext cx="1524240" cy="1904760"/>
          </a:xfrm>
          <a:prstGeom prst="rightArrowCallout">
            <a:avLst>
              <a:gd name="adj1" fmla="val 48798"/>
              <a:gd name="adj2" fmla="val 49986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Ổ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ỨC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3" name="Right Arrow Callout 9"/>
          <p:cNvSpPr/>
          <p:nvPr/>
        </p:nvSpPr>
        <p:spPr>
          <a:xfrm>
            <a:off x="152280" y="480060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HI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Ớ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4" name="Right Arrow Callout 10"/>
          <p:cNvSpPr/>
          <p:nvPr/>
        </p:nvSpPr>
        <p:spPr>
          <a:xfrm>
            <a:off x="152280" y="563868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ÍNH TOÁ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752480" y="281952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Soạn thảo, ban hành VB, theo dõi đôn đốc việc thực h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hội họ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giao tiếp đối nội, đối ngoại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1752480" y="4876920"/>
            <a:ext cx="7010640" cy="457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, lưu trữ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752480" y="5410080"/>
            <a:ext cx="701064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nhân sự, tiền lươ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tài sản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8" name="Footer Placeholder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69A7-41B7-402D-B996-7B2E0EA04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A8D6-A02F-4225-8D67-B0A199B76BF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2438280"/>
            <a:ext cx="8229600" cy="3886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principles (a head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issuing the guidance, professional inspection to office subordinate organization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3" name="Horizontal Scroll 7"/>
          <p:cNvSpPr/>
          <p:nvPr/>
        </p:nvSpPr>
        <p:spPr>
          <a:xfrm>
            <a:off x="304920" y="33480"/>
            <a:ext cx="853416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STRUCTURE &amp; ORGANIZATION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4" name="Horizontal Scroll 8"/>
          <p:cNvSpPr/>
          <p:nvPr/>
        </p:nvSpPr>
        <p:spPr>
          <a:xfrm>
            <a:off x="380880" y="16765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PRINCIPLE OF OPER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F504-A0D7-49B7-BCC4-B9C0E7B1F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7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76D3-E130-48B8-86B3-6925DE98573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ành chính (thủ trưởng lãnh đạ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tổ chức cấp trên hướng dẫn, kiểm tra chuyên môn văn phòng tổ chức cấp dướ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0" name="Horizontal Scroll 6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CƠ CẤU,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1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NGUYÊN TẮC HOẠT ĐỘ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D0EE-8578-4116-99FB-8F954C0B3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B902-F341-45F8-8BEE-64EFDC4B325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6" name="Horizontal Scroll 4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OFFICE ORGAN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7" name="Horizontal Scroll 5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FORMS OF ORGANIZATION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57200" y="1981080"/>
            <a:ext cx="4114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 clu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4648320" y="1981080"/>
            <a:ext cx="4038480" cy="4267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n func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05740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624852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76BF-8654-4CC1-B377-9355EB81A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4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7A4A-A11D-48CE-A225-CFB47AF0DE1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6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7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HÌNH THỨC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488" name="Group 13"/>
          <p:cNvGrpSpPr/>
          <p:nvPr/>
        </p:nvGrpSpPr>
        <p:grpSpPr>
          <a:xfrm>
            <a:off x="457200" y="1981080"/>
            <a:ext cx="4114800" cy="4267440"/>
            <a:chOff x="457200" y="1981080"/>
            <a:chExt cx="4114800" cy="4267440"/>
          </a:xfrm>
        </p:grpSpPr>
        <p:sp>
          <p:nvSpPr>
            <p:cNvPr id="489" name="Rectangle 3"/>
            <p:cNvSpPr/>
            <p:nvPr/>
          </p:nvSpPr>
          <p:spPr>
            <a:xfrm>
              <a:off x="457200" y="1981080"/>
              <a:ext cx="4114800" cy="42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một đầu mối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Tập trung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0" name="Oval 11"/>
            <p:cNvSpPr/>
            <p:nvPr/>
          </p:nvSpPr>
          <p:spPr>
            <a:xfrm>
              <a:off x="205740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grpSp>
        <p:nvGrpSpPr>
          <p:cNvPr id="491" name="Group 14"/>
          <p:cNvGrpSpPr/>
          <p:nvPr/>
        </p:nvGrpSpPr>
        <p:grpSpPr>
          <a:xfrm>
            <a:off x="4648320" y="1981080"/>
            <a:ext cx="4038480" cy="4267440"/>
            <a:chOff x="4648320" y="1981080"/>
            <a:chExt cx="4038480" cy="4267440"/>
          </a:xfrm>
        </p:grpSpPr>
        <p:sp>
          <p:nvSpPr>
            <p:cNvPr id="492" name="Rectangle 3"/>
            <p:cNvSpPr/>
            <p:nvPr/>
          </p:nvSpPr>
          <p:spPr>
            <a:xfrm>
              <a:off x="4648320" y="1981080"/>
              <a:ext cx="4038480" cy="4267440"/>
            </a:xfrm>
            <a:prstGeom prst="rect">
              <a:avLst/>
            </a:prstGeom>
            <a:noFill/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heo chức nă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Phân tán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3" name="Oval 12"/>
            <p:cNvSpPr/>
            <p:nvPr/>
          </p:nvSpPr>
          <p:spPr>
            <a:xfrm>
              <a:off x="624852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494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350"/>
                            </p:stCondLst>
                            <p:childTnLst>
                              <p:par>
                                <p:cTn id="12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350"/>
                            </p:stCondLst>
                            <p:childTnLst>
                              <p:par>
                                <p:cTn id="1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11AD-1F75-445F-829B-8BD90F456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B9F-9A9E-46D3-9195-559B17B908B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Số tín chỉ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(30 tiết lý thuyế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trình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Phần 9 C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iểu luận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hóm 3 - 5 SV (nộp TL và thuyết trình trên lớ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ình thức thi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ắc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iữa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uối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ỉ học ≥ 6 tiế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Cấm thi cuối k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TỔNG QUÁT VỀ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BC10-0F05-4003-B5AF-544984C6D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E7FC-156C-487D-86C6-213CF275A31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operating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der the office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operating, inspection, personnel, allocation mea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ownsid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ard specializ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9" name="Horizontal Scroll 5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A CLU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B9AB-93B4-4295-AEB8-7F16D87E1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2" name="Date Placeholder 4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FC82-4911-40D6-B058-9ED9359BAA3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Không chia nhỏ thành phòng b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ọi hoạt động của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điều hàn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điều hành, kiểm tra, điều động nhân sự, phân bổ phương t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hó chuyên môn hó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5" name="Horizontal Scroll 7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MỘT ĐẦU MỐI (TẬP TRUNG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600"/>
                            </p:stCondLst>
                            <p:childTnLst>
                              <p:par>
                                <p:cTn id="13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4C47-CCB6-4CFC-B13C-0B0A74509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8" name="Date Placeholder 2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9D3B-DB2E-4BFF-8E11-D980DCA3A22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office is divided into several functional experti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office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under the supervisio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Work special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is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violation boss regim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ON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C93B-5D9A-457C-99A6-9D3820F77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65A7-3AE3-4FE6-9778-410082EBEDC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được chia ra thành nhiều phòng chức năng theo chuyên mô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oàn bộ hoạt động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giám sá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7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PHÂN TÁN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m hãy phân tích những ưu điểm và nhược điểm của hình thức tổ chức văn phòng tập trung theo chức năng (phân tá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0137-6B4B-4A8E-BC04-D935115D3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C4D9-DD3E-4377-BA61-48227028B5C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4" name="Horizontal Scroll 7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KIỂM TRA 10 PHÚ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4A10-90FD-4B50-8565-39D62C95B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C07B-EBAF-41CE-A104-9CB60E68018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huyên môn hóa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vi phạm chế độ một thủ trưởng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0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ƯU, NHƯỢC ĐIỂ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2B91-C976-4D08-8E7F-BADC858B2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AE0-1E67-4CA7-9AE0-042780158F9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3" name="Picture 2" descr="http://www.cicb.vn/images/stories/cocau_vie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5" name="Picture 6" descr="http://cicb.vn/templates/cic-trilm/images_trilm/header-vietnamese.png"/>
          <p:cNvPicPr/>
          <p:nvPr/>
        </p:nvPicPr>
        <p:blipFill>
          <a:blip r:embed="rId2"/>
          <a:stretch/>
        </p:blipFill>
        <p:spPr>
          <a:xfrm>
            <a:off x="193680" y="-1522440"/>
            <a:ext cx="943920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5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1ED2-2C54-4252-84E6-7846E5CE9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5B4C-E0E2-4AC1-95EF-2E5717AD672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eadership Office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hief Office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Deputy Chief of staff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nctions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lerical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Synthesis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Human Resource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Accounting and Cashier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Material facilities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Protection, receptionist, odd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2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ORGANIZATIONAL STRUCTUR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9F52-82E1-4617-A883-6DDD4E47D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AE31-A68C-4A47-B00D-88483497252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Lãnh đạo Văn phò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hó 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Bộ phận chức nă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Văn th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Tổng hợ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nhân s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Kế toán – thủ qu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cơ sở vật chất (Quản tr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Bảo vệ, lễ tân, tạp v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8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CƠ CẤU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F826-7AE1-4A61-AECA-D1B28CD8E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C17B-CBE8-41F0-9354-4B38E652D88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2" name="Picture 2" descr="http://dbnd.danang.gov.vn/Portals/0/TOCHUC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Đoàn đại biểu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Hội đồng nhân dâ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 TP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Đà Nẵ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1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verview of the Office 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2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Information Management &amp;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3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ing the re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4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Meeting &amp; Management program development pl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B27F-F9E0-44D1-9FC7-1443DB584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457200" y="622944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79B1-35EC-4634-A93D-65A4B1747F5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 OF OFFICE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B42-D61C-4DDB-9513-F148B2C8E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C82F-52C6-49CB-ABBB-A20B56C70AB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0" y="0"/>
            <a:ext cx="9144000" cy="1297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Tòa án nhân dân tối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8" name="Picture 2" descr="http://www.toaan.gov.vn/portal/pls/portal/docs/1/4229271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4FDB-3B95-492A-A958-81E1D1371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E0AD-6EB7-4E9D-AA6B-DB5BF104D4E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respons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4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OFFICE MANAGEMENT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program,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6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7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8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3D2D-96BB-4D7F-9CB9-F7C6E62BB6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4692-3B8A-426E-B0E0-0DB143D7B08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ứng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CÁC PHƯƠNG PHÁP QUẢN LÝ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ập chương trình,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kế ho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0206-05CE-4847-9EC0-DC1A2E121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7AA3-2CF4-4BA9-8608-E24290B53CB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re is no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first to do it, react, respon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ssive manage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ecision management is always changing because they do not choose the optimal solu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Staff easy to lose confidence in leadershi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2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RESPONSE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BE7F-6EE5-43C1-8A2A-EE51E4220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1A1F-1D50-4028-AA6D-B1013C6F36E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990720" y="990360"/>
            <a:ext cx="7772400" cy="4343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có kế hoạch cụ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Đị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 đâu làm đó, phản ứng, đối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ị động tro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Q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yết định quản lý luôn thay đổi vì chưa chọn được giải pháp tối ư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dễ mất lòng tin lãnh đ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8" name="Horizontal Scroll 6"/>
          <p:cNvSpPr/>
          <p:nvPr/>
        </p:nvSpPr>
        <p:spPr>
          <a:xfrm>
            <a:off x="304920" y="33480"/>
            <a:ext cx="853416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 ỨNG PHÓ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990720" y="5410080"/>
            <a:ext cx="7772400" cy="914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Phát huy tính sáng t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1" name="Rectangle 3"/>
          <p:cNvSpPr/>
          <p:nvPr/>
        </p:nvSpPr>
        <p:spPr>
          <a:xfrm rot="5400000">
            <a:off x="-1562400" y="2857680"/>
            <a:ext cx="4343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2" name="Rectangle 3"/>
          <p:cNvSpPr/>
          <p:nvPr/>
        </p:nvSpPr>
        <p:spPr>
          <a:xfrm rot="5400000">
            <a:off x="151920" y="5562360"/>
            <a:ext cx="914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F724-6996-4C56-A14B-744219C7CB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5AA4-F04F-4ED6-A438-0B8C3325066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121932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re a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aving a plan to deal with situ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ocation of powers and responsibilities to staff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participant in the work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7" name="Horizontal Scroll 5"/>
          <p:cNvSpPr/>
          <p:nvPr/>
        </p:nvSpPr>
        <p:spPr>
          <a:xfrm>
            <a:off x="304920" y="33480"/>
            <a:ext cx="84582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PROGRAM, PLANNED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A1A7-438A-4823-8481-1AFDFE75E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0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A530-AABA-4A60-9BB2-C958B6D01A7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kế hoạch cụ thể cho công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phương án giải quyết tình huố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Giao quyền hạn, trách nhiệm cho nhân v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chủ động trong thực hiện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3" name="Horizontal Scroll 6"/>
          <p:cNvSpPr/>
          <p:nvPr/>
        </p:nvSpPr>
        <p:spPr>
          <a:xfrm>
            <a:off x="304920" y="33480"/>
            <a:ext cx="8458200" cy="1414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ẬP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9BE4-C22F-4E57-BA7F-7A3158666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5A19-F2CC-452C-9BB7-525178A4BDA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80880" y="1066680"/>
            <a:ext cx="838224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ot apply purely one metho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eed to combine the two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work must be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foreseen contingencies: respon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rough response, managers have more experience and creativ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 standard response evaluation staff capac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9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AC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1173-1534-4C5A-B3A2-65B88115D0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2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46E4-09FE-434C-9388-6A5BEFE52EA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38224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Không áp dụng thuần túy 1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ần kết hợp hai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ông việc phải được lập kế hoạ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ình huống bất ngờ ngoài dự kiến: ứng phó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hông qua ứng phó, nhà quản trị có thêm kinh nghiệm, sáng tạ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Ứng phó là tiêu chuẩn đánh giá năng lực cán bộ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37E6-1D18-4186-91F5-B2A8F25FB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0495-9D09-4E10-871E-2CE3D22FD80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2438280"/>
            <a:ext cx="8229600" cy="2210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reate the best work environ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venient seati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nsure that confidential documents, material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1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2" name="Horizontal Scroll 6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PURPOSE &amp; 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57200" y="5257800"/>
            <a:ext cx="8229600" cy="1143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ake the most of, the office area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Reduce travel time between par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4" name="Horizontal Scroll 8"/>
          <p:cNvSpPr/>
          <p:nvPr/>
        </p:nvSpPr>
        <p:spPr>
          <a:xfrm>
            <a:off x="380880" y="182880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5" name="Horizontal Scroll 9"/>
          <p:cNvSpPr/>
          <p:nvPr/>
        </p:nvSpPr>
        <p:spPr>
          <a:xfrm>
            <a:off x="380880" y="46483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535F-3131-40DF-842D-79EF75BEC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B6A9-8450-401A-952C-5B777F17A51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457200" y="213372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5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Overview of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6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Procedures &amp; techniques presented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7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Style the administrative language in the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8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he process of drafting &amp; issuing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9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echnical drafting, presents some common administrative documents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DRAFTING, TEXT LAYOU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406D-B772-45BB-A1C0-E52C381CD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8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7641-99C5-49F1-AF79-8CF18716E8F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1676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ạo môi trường làm việc tốt nhấ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huận tiện tiếp khá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Đảm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ảo giữ bí mật văn bản, tài liệ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1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BỐ TRÍ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2" name="Horizontal Scroll 7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MỤC ĐÍCH, 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4800600"/>
            <a:ext cx="8229600" cy="1600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ận dụng tối đa, cơ động diện tích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ảm thiểu thời gian di chuyển giữa các bộ phận.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4" name="Horizontal Scroll 9"/>
          <p:cNvSpPr/>
          <p:nvPr/>
        </p:nvSpPr>
        <p:spPr>
          <a:xfrm>
            <a:off x="380880" y="1828800"/>
            <a:ext cx="411480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ục đí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5" name="Horizontal Scroll 10"/>
          <p:cNvSpPr/>
          <p:nvPr/>
        </p:nvSpPr>
        <p:spPr>
          <a:xfrm>
            <a:off x="380880" y="41911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6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ECC2-7B18-4E86-8787-9D4E4057E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9EA0-4FFF-4A28-94EE-55BF6BB2666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0" name="Horizontal Scroll 4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METHODS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lose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pen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E991-EBB3-4684-9CCC-F6C4D9092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99F1-EE57-4CF3-8655-CE15C36D957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9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PHƯƠNG PHÁP BỐ TRÍ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2" name="Oval 10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3" name="Oval 11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4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C841-5963-4D15-BFC5-907B7743B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C249-E017-42BA-A1E1-44709BE57A3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■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fice split: Each unit a separate room, the door closed.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urity job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ensure the privacy of employees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itable work should focus on hig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isadvantages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Cost area, increasing the cost of electricity, office equipment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OSE SPACE 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591F-4533-432B-ADBB-C945EC234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F00-BEF8-455F-94DD-8C47E192334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chia nhỏ: Từng bộ phận bố trí phòng riêng, cửa đóng kí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mật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tính riêng tư của nhân vi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ốn diện tích, tăng chi phí điện, thiết bị V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5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FB4A-CD8B-4660-90CE-84429E83D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0AAB-2BF5-4274-94E2-7AB8CFCF640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70" name="Picture 2" descr="http://cuanhualoithep.com/wp-content/uploads/vach-kinh-pano1.jpg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02920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2" name="Horizontal Scroll 6"/>
          <p:cNvSpPr/>
          <p:nvPr/>
        </p:nvSpPr>
        <p:spPr>
          <a:xfrm>
            <a:off x="228600" y="3348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A6F1-37B8-4C74-8648-1783A1B4FC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390A-0554-4744-96C7-28F12F05251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bộ phận bố trí trong phòng lớ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iết kiệm chi phí, diện 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uận tiện trong giao tiếp giữa các bộ ph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ễ quản lý nhân viên về thời g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54A5-E4E1-4564-B73B-6C6178612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0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73A6-49BB-4AC6-BF3F-0C31324B4BB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1" name="Picture 2" descr="http://www.donnhatrongoi.info/Uploads/Image/van_phong.jpg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10516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3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4" name="Picture 8" descr="http://vneconomy2.vcmedia.vn/zoom/500_312/Images/Uploaded/Share/2011/02/08/044.jpg"/>
          <p:cNvPicPr/>
          <p:nvPr/>
        </p:nvPicPr>
        <p:blipFill>
          <a:blip r:embed="rId2"/>
          <a:stretch/>
        </p:blipFill>
        <p:spPr>
          <a:xfrm>
            <a:off x="257040" y="1219320"/>
            <a:ext cx="8658360" cy="5181480"/>
          </a:xfrm>
          <a:prstGeom prst="rect">
            <a:avLst/>
          </a:prstGeom>
          <a:ln w="0">
            <a:noFill/>
          </a:ln>
        </p:spPr>
      </p:pic>
      <p:sp>
        <p:nvSpPr>
          <p:cNvPr id="68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D033-31B5-4A64-B15D-DCF1DA6EE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7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09FD-C4C1-41E7-A28D-D1E209DA422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8" name="Picture 2" descr="http://ssp.com.vn/store_editor/image/Sanphamvadichvu/Chothuevanphong/van%20phong%202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1051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0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BC95-2A69-4FE2-AA85-B2A377559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3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08EE-8448-48D6-BA76-C004CA6A60A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457200" y="990720"/>
            <a:ext cx="830592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Equipmen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elephone, fax, photo-copy machine, computers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rnitur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ables, chairs, filing cabinets, racks document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odernization of the office: Computerization &amp; telecommun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perless office, electronic documen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lectronic offic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6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OFFICE EQUIP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ADE6-EBD5-4537-98E2-D131F51E4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5421-644C-4371-AAAF-9B20DD9478C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QT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Horizontal Scroll 6"/>
          <p:cNvSpPr/>
          <p:nvPr/>
        </p:nvSpPr>
        <p:spPr>
          <a:xfrm>
            <a:off x="304920" y="33480"/>
            <a:ext cx="845820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990720"/>
            <a:ext cx="8229600" cy="9903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ỔNG QUAN VỀ QUẢN TRỊ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9" descr="https://encrypted-tbn1.gstatic.com/images?q=tbn:ANd9GcRz0-7y_77Ycxnori6GErNJ3ju76oqe8Xd_a6hhufYClLZGMaYo4A"/>
          <p:cNvPicPr/>
          <p:nvPr/>
        </p:nvPicPr>
        <p:blipFill>
          <a:blip r:embed="rId1"/>
          <a:stretch/>
        </p:blipFill>
        <p:spPr>
          <a:xfrm>
            <a:off x="485640" y="5105520"/>
            <a:ext cx="8201160" cy="12952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5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thông tin &amp; hồ sơ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ounded Rectangle 13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43200" y="335268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công tác lễ tâ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743200" y="3962520"/>
            <a:ext cx="5943600" cy="1066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hội họp &amp; 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ounded Rectangle 16"/>
          <p:cNvSpPr/>
          <p:nvPr/>
        </p:nvSpPr>
        <p:spPr>
          <a:xfrm>
            <a:off x="457200" y="335268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ounded Rectangle 17"/>
          <p:cNvSpPr/>
          <p:nvPr/>
        </p:nvSpPr>
        <p:spPr>
          <a:xfrm>
            <a:off x="457200" y="3962520"/>
            <a:ext cx="2209680" cy="10666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73C2-679C-4B71-9241-7A2F44746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467F-07E8-4061-90C5-E3E5FD6B0A2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iết b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iện thoại, máy fax, máy photo-copy, máy vi tính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Đồ dù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Bàn, ghế, tủ hồ sơ, giá để tài liệu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ện đại hóa công tác VP: Tin học hóa, viễn thông hó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không giấy, văn thư điện t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điện t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TRANG THIẾT BỊ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ĐIỆN T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3DEC-71CC-41D7-A796-427FDC548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3DD9-7F03-4414-A8CE-0F996A73DAA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07" name="Picture 6" descr="http://doanhnghiepmoi.net/UploadImages/VANPHONGDIENTU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0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BA51-3D16-40CA-97DE-79D681618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4930-466A-46B7-BECB-5EB7D73C69C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11" name="Picture 2" descr="http://egov.iuh.edu.vn/Resources/Icons/Design/bgLogin.png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3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Ệ THỐNG VĂN THƯ ĐIỆN TỬ IU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C3D8-B13D-4E58-8B00-82CB4C440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6" name="Date Placeholder 2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1116-8328-4177-B9FA-D4628A950D2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457200" y="1066680"/>
            <a:ext cx="8458200" cy="1067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Office tradition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   The actual activity in the office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9" name="Horizontal Scroll 5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FORMS OF OFFICE OPER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0" name="Horizontal Scroll 6"/>
          <p:cNvSpPr/>
          <p:nvPr/>
        </p:nvSpPr>
        <p:spPr>
          <a:xfrm>
            <a:off x="457200" y="990720"/>
            <a:ext cx="380988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 tradi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2362320"/>
            <a:ext cx="8458200" cy="4038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irtual Office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:   No actual work at th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Office for rent 0m ²: Registered address founded company, branches, representative offices, set the table name company, receive &amp; send faxes, letters, mailers &amp; other utilities rent on demand: seats, meeting rooms...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Virtual office is only suitable representative offices, small businesses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2" name="Horizontal Scroll 8"/>
          <p:cNvSpPr/>
          <p:nvPr/>
        </p:nvSpPr>
        <p:spPr>
          <a:xfrm>
            <a:off x="457200" y="228600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tual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4" name="Oval 10"/>
          <p:cNvSpPr/>
          <p:nvPr/>
        </p:nvSpPr>
        <p:spPr>
          <a:xfrm>
            <a:off x="0" y="1066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5" name="Oval 11"/>
          <p:cNvSpPr/>
          <p:nvPr/>
        </p:nvSpPr>
        <p:spPr>
          <a:xfrm>
            <a:off x="0" y="2362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3DD8-5FFC-4EED-BD43-41A462C19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448-C2D0-4AC8-A86C-0EFD1041222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761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truyền thống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oạt động thực tế tại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0" name="Horizontal Scroll 6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HÌNH THỨC HOẠT ĐỘNG CỦA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57200" y="2209680"/>
            <a:ext cx="8381880" cy="4114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ảo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Không hoạt động thực tế tại V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cho thuê 0m²: Địa chỉ đăng ký thành lập Cty, Chi nhánh, VPĐD, đặt bảng tên Cty, nhận &amp; gởi fax, thư từ bưu phẩm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ác tiện ích khác thuê theo nhu cầu: chỗ ngồi, phòng họp, photocopy, máy in…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ảo chỉ thích hợp VPĐD, DN nhỏ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2" name="Horizontal Scroll 8"/>
          <p:cNvSpPr/>
          <p:nvPr/>
        </p:nvSpPr>
        <p:spPr>
          <a:xfrm>
            <a:off x="457200" y="2133720"/>
            <a:ext cx="175248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3" name="Horizontal Scroll 9"/>
          <p:cNvSpPr/>
          <p:nvPr/>
        </p:nvSpPr>
        <p:spPr>
          <a:xfrm>
            <a:off x="457200" y="1143000"/>
            <a:ext cx="3733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truyền thố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5" name="Oval 11"/>
          <p:cNvSpPr/>
          <p:nvPr/>
        </p:nvSpPr>
        <p:spPr>
          <a:xfrm>
            <a:off x="0" y="1219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0" y="2209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93FE-EE88-44C4-BB49-9E006A269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CEB2-37EA-4251-9FFE-05C58F13DAE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39" name="Picture 2" descr="http://images03.jaovat.com/ui/4/07/51/1348481685_441080651_14-Cho-thue-van-phong-tron-goi-tai-137-Nguyen-Ngoc-V-Ha-Noi-0977177155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" descr="http://raovat.haiphonginfo.vn/Images/Items/%E1%BA%A3nh%289%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42F7-C837-4886-BDDB-10A2BC3A9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3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9261-79FA-4213-80AF-EF23753A7FD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44" name="Picture 2" descr="http://www.goffice.vn/vn/images/stories/hinhanh/37/1.jpg"/>
          <p:cNvPicPr/>
          <p:nvPr/>
        </p:nvPicPr>
        <p:blipFill>
          <a:blip r:embed="rId1"/>
          <a:stretch/>
        </p:blipFill>
        <p:spPr>
          <a:xfrm>
            <a:off x="304920" y="1219320"/>
            <a:ext cx="350496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45" name="Title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6" name="Title 1"/>
          <p:cNvSpPr/>
          <p:nvPr/>
        </p:nvSpPr>
        <p:spPr>
          <a:xfrm>
            <a:off x="3886200" y="1219320"/>
            <a:ext cx="1371600" cy="5105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ỊC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Ụ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 THUÊ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Ă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ÒNG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Ả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7" name="Title 1"/>
          <p:cNvSpPr/>
          <p:nvPr/>
        </p:nvSpPr>
        <p:spPr>
          <a:xfrm>
            <a:off x="0" y="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igon Trade Center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37 Tôn Đức Thắng)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aigon Tower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(29 Lê Duẩ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0" name="Rounded Rectangle 12"/>
          <p:cNvSpPr/>
          <p:nvPr/>
        </p:nvSpPr>
        <p:spPr>
          <a:xfrm>
            <a:off x="3049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G-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1" name="Picture 14" descr="Regus Virtual Office in Ho Chi Minh City, Saigon Tower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52" name="Rounded Rectangle 14"/>
          <p:cNvSpPr/>
          <p:nvPr/>
        </p:nvSpPr>
        <p:spPr>
          <a:xfrm>
            <a:off x="53341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Regu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1"/>
          <p:cNvSpPr/>
          <p:nvPr/>
        </p:nvSpPr>
        <p:spPr>
          <a:xfrm>
            <a:off x="6553080" y="62326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6DBA-6738-47A6-B6D8-E50FA0FF8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4" name="Date Placeholder 2"/>
          <p:cNvSpPr/>
          <p:nvPr/>
        </p:nvSpPr>
        <p:spPr>
          <a:xfrm>
            <a:off x="457200" y="622944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8972-13D5-44B5-9230-E623E7FCDCD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33840" y="-9062640"/>
            <a:ext cx="5723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dịch vụ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gói cước văn phòng ảo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graphicFrame>
        <p:nvGraphicFramePr>
          <p:cNvPr id="757" name=""/>
          <p:cNvGraphicFramePr/>
          <p:nvPr/>
        </p:nvGraphicFramePr>
        <p:xfrm>
          <a:off x="228600" y="1676520"/>
          <a:ext cx="8610480" cy="29718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Gói cướ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HD Tow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7924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asic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780.000 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Economy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1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816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usiness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6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First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2.50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758" name="Rectangle 12"/>
          <p:cNvSpPr/>
          <p:nvPr/>
        </p:nvSpPr>
        <p:spPr>
          <a:xfrm>
            <a:off x="228600" y="4648320"/>
            <a:ext cx="8610480" cy="1676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Cty 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Đầu tư 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ữu Liên.</a:t>
            </a:r>
            <a:br>
              <a:rPr sz="3200"/>
            </a:b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Lầu 5, HD Tower, 25bis Nguyễn Thị Minh Khai, Bến Nghé, Q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1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P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C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CCAD-7DA2-4BEE-9E85-9EFBB0FBC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635A-9BA6-430E-A770-B69F1924F34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62" name="Picture 2" descr="http://www.sohovina.com/data/Picture/Cho%20ngoiu%20ca%20nhan_1331349708.jpg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http://www.sohovina.com/data/Picture/Phong%20hop_1331349562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00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http://www.sohovina.com/data/Picture/Sanh%20tiep%20khach%285%29_1331601725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http://www.sohovina.com/data/Picture/Tien%20ich%20tai%20soho%286%29_1331601808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http://www.soffice.vn/files/news/283/6d402d68-f3c7-4465-bd5e-2897eebaeb33.jpg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4" descr="http://www.soffice.vn/files/news/303/bbb35732-1d21-4811-81bd-83d195c7667b.JPG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6" descr="http://www.soffice.vn/files/assets/canhcam/25-bis_daidien.jpg"/>
          <p:cNvPicPr/>
          <p:nvPr/>
        </p:nvPicPr>
        <p:blipFill>
          <a:blip r:embed="rId7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6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DA5B-ED25-4DB2-8D3E-896FEBBB8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B9A7-D7A0-41DB-B05E-6103B4EFC8E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72" name="Picture 2" descr="http://www.executivespacesolutions.com/wp-content/uploads/Virtual-Office-Solutions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5F9D-1454-4DD2-8316-92C2A302D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Date Placeholder 5"/>
          <p:cNvSpPr/>
          <p:nvPr/>
        </p:nvSpPr>
        <p:spPr>
          <a:xfrm>
            <a:off x="4572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813F-A5A2-45C2-98C3-A57F60CCA85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V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THUẬT SOẠN THẢO,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hể thức, kỹ thuật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43200" y="335268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Phong cách ngôn ngữ trong VB hành chính - công vụ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743200" y="4419720"/>
            <a:ext cx="5943600" cy="990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y trình soạn thảo ban hành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743200" y="548640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ỹ thuật soạn thảo, trình bày VB hành chính thông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Rounded Rectangle 15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Rounded Rectangle 16"/>
          <p:cNvSpPr/>
          <p:nvPr/>
        </p:nvSpPr>
        <p:spPr>
          <a:xfrm>
            <a:off x="457200" y="335268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ounded Rectangle 17"/>
          <p:cNvSpPr/>
          <p:nvPr/>
        </p:nvSpPr>
        <p:spPr>
          <a:xfrm>
            <a:off x="457200" y="4419720"/>
            <a:ext cx="2209680" cy="990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Rounded Rectangle 18"/>
          <p:cNvSpPr/>
          <p:nvPr/>
        </p:nvSpPr>
        <p:spPr>
          <a:xfrm>
            <a:off x="457200" y="548640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9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2625-BAA6-478E-A951-FDF74072BB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5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CCFB-B9EA-4DFD-8955-19DBEF550B8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basic function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ational structure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form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Analysis of the role of the office for agencies &amp; organizations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 management methods, advantages &amp; disadvantages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48F9-D491-4EA7-AF01-ED81327A2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0970-A4CC-4541-B143-748BEA6FAD8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là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chức năng cơ bản của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ơ cấu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hình thức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hân tích vai trò của văn phòng đối với cơ quan, tổ chứ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êu các phương pháp quản lý văn phòng, ưu nhược điể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3-23T17:30:44Z</dcterms:modified>
  <cp:revision>677</cp:revision>
  <dc:subject/>
  <dc:title>Chương 1</dc:title>
</cp:coreProperties>
</file>